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4971-91B2-4B74-B026-DBDF6311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3D20-232F-4F5E-9520-8A52EF4B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1B6C-7DA8-4D0F-A473-2F8F02FC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C4C3-F1B0-4466-897E-2505B4FD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5D38-2EE9-494F-91EF-0E30E40E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EF5F-7C15-4BFC-859D-E4ACE8A5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9BF9-436F-4F51-8789-6E91297C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44E1-39BB-4538-95C1-6D2AF9B0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8D60-E6FB-4CDE-BBE2-B44BE3A3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6F63-CA28-4441-9254-8CFD177E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F72F-EB22-41FD-9053-1EB73AC1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BF89-056B-4DDB-9B69-9EFBB56F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59B7-E543-4941-9636-7C916FC1EFD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4343400"/>
            <a:ext cx="6324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Alexander Meduna 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Roman Luk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2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5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9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2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6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9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3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6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7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1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9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8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1219320"/>
            <a:ext cx="807732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MGR is defined analogically as the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MGN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2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5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8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9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2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5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6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9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2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3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6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9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1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6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1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6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MGN to equivalent 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M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5257800"/>
            <a:ext cx="221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257800" y="525780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962520" y="5562720"/>
            <a:ext cx="7596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6019920"/>
            <a:ext cx="251460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91320" y="6019920"/>
            <a:ext cx="259056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943240" y="5410080"/>
            <a:ext cx="6858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1143000"/>
            <a:ext cx="7772400" cy="31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 the language families defined by MGN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e and MGR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MGR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MGN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114800" y="51055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343400" y="47242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51814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800600" y="48769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81480" y="51814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943600" y="4952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34120" y="4800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05320" y="4800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86200" y="47242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51814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51055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4952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8120" y="4800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3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2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4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ftmo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10-23T18:01:41Z</dcterms:modified>
  <cp:revision>192</cp:revision>
  <dc:subject/>
  <dc:title>Formal Languages and Compilers</dc:title>
</cp:coreProperties>
</file>